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54CF-7695-48FD-89CE-0EC09745D2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RY HILL Vs DUDLY HIGH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RY HILL Vs DUDLY HIGH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parison good shops benefit from being close to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Town centres traditionally the most accessibl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Fairly small scale busi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parison good shops benefit from being close to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Town centres traditionally the most accessibl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Fairly small scale busi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park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park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027-DCBA-4DDD-8D58-8B034882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ECA6-111D-4B6F-B570-430AEE86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194-83DD-4C9C-884E-C588F13E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1341-9856-44BA-B92B-DE5B5F3A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A37A-0168-403D-B9F8-8852E84A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353-E445-4071-8827-04429C39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F224-F463-4AA0-994F-1A1517EB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1745-0539-40B2-9752-289EB481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160-9BEC-428B-A962-0CDA93A5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8F8F-B1EA-4F8E-A28B-0BE2C49E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32E-6F10-4735-9754-907B758E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9654-1382-464A-B2DC-F0848386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6A63-8B2F-4F72-87FB-F4318636AB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Town%20Centre%20Square%20-%20Low%20Re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solidFill>
            <a:srgbClr val="bbe0e3">
              <a:alpha val="7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2133720"/>
            <a:ext cx="5076720" cy="38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arket_1_large"/>
          <p:cNvPicPr/>
          <p:nvPr/>
        </p:nvPicPr>
        <p:blipFill>
          <a:blip r:embed="rId2"/>
          <a:stretch/>
        </p:blipFill>
        <p:spPr>
          <a:xfrm>
            <a:off x="5113440" y="1484280"/>
            <a:ext cx="4030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2852280"/>
            <a:ext cx="8569080" cy="1297080"/>
          </a:xfrm>
          <a:prstGeom prst="rect">
            <a:avLst/>
          </a:prstGeom>
          <a:solidFill>
            <a:srgbClr val="00800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RRY HILL Vs DUDLY HIGH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91628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617920" y="1773360"/>
            <a:ext cx="38145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709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) Comparison good shops benefit from being close to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) Town centres traditionally the most accessible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4) Fairly small scale busines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28608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22176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Why out of town shopping centres grew and their proble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1292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tail park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gional Shopping cen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28:45Z</dcterms:created>
  <dc:creator>Ben Bates</dc:creator>
  <dc:description/>
  <dc:language>en-US</dc:language>
  <cp:lastModifiedBy>RomaK</cp:lastModifiedBy>
  <dcterms:modified xsi:type="dcterms:W3CDTF">2015-09-04T09:40:59Z</dcterms:modified>
  <cp:revision>6</cp:revision>
  <dc:subject/>
  <dc:title>Changes in the CBD</dc:title>
</cp:coreProperties>
</file>